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8cf4ea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364760"/>
            <a:ext cx="7848720" cy="100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wo Step Inequalit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8080" y="3177720"/>
            <a:ext cx="78487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gebra Semin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d49f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5640" y="759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Solve 5m - 8 &gt;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0" y="10666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8   +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m      &gt;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           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</a:t>
            </a:r>
            <a:r>
              <a:rPr b="0" lang="en-US" sz="3300" spc="-1" strike="noStrike">
                <a:solidFill>
                  <a:srgbClr val="fc0128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m &gt;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– 8 =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95280"/>
            <a:ext cx="4267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8 to both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oth sides by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457200"/>
            <a:ext cx="0" cy="3657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8288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2590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rShape1"/>
          <p:cNvSpPr/>
          <p:nvPr/>
        </p:nvSpPr>
        <p:spPr>
          <a:xfrm rot="10800000">
            <a:off x="7924680" y="43434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38200" y="5334120"/>
            <a:ext cx="7020000" cy="992520"/>
            <a:chOff x="1438200" y="5334120"/>
            <a:chExt cx="7020000" cy="992520"/>
          </a:xfrm>
        </p:grpSpPr>
        <p:sp>
          <p:nvSpPr>
            <p:cNvPr id="49" name=""/>
            <p:cNvSpPr/>
            <p:nvPr/>
          </p:nvSpPr>
          <p:spPr>
            <a:xfrm>
              <a:off x="4950000" y="5762520"/>
              <a:ext cx="35082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3880" y="5765760"/>
              <a:ext cx="662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56520" y="5673600"/>
              <a:ext cx="8892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69120" y="5686560"/>
              <a:ext cx="180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169120" y="5749920"/>
              <a:ext cx="889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8168760" y="5686560"/>
              <a:ext cx="889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38200" y="56736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1577880" y="5686560"/>
              <a:ext cx="180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450440" y="5686560"/>
              <a:ext cx="1270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50800" y="5749920"/>
              <a:ext cx="1270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025800" y="5622840"/>
              <a:ext cx="144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854600" y="5622840"/>
              <a:ext cx="144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683400" y="5622840"/>
              <a:ext cx="144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28880" y="533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6800" y="58388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517440" y="58388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85400" y="58388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a27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Solve  12 - 3a &gt;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10666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12         -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a  &gt; 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a &lt;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- 3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-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=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295280"/>
            <a:ext cx="4267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“the river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12 from both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oth sides by -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witch the inequality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89680" y="457200"/>
            <a:ext cx="0" cy="3657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18288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2666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2666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 rot="10800000">
            <a:off x="8458200" y="43434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52360" y="5486400"/>
            <a:ext cx="6962760" cy="1020960"/>
            <a:chOff x="1152360" y="5486400"/>
            <a:chExt cx="6962760" cy="1020960"/>
          </a:xfrm>
        </p:grpSpPr>
        <p:grpSp>
          <p:nvGrpSpPr>
            <p:cNvPr id="75" name=""/>
            <p:cNvGrpSpPr/>
            <p:nvPr/>
          </p:nvGrpSpPr>
          <p:grpSpPr>
            <a:xfrm>
              <a:off x="1152360" y="5783040"/>
              <a:ext cx="6962760" cy="216000"/>
              <a:chOff x="1152360" y="5783040"/>
              <a:chExt cx="6962760" cy="21600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1152360" y="5911560"/>
                <a:ext cx="3470400" cy="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96800" y="591012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13600" y="583380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026200" y="584676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8026200" y="591012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flipV="1">
                <a:off x="8025840" y="584676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295280" y="58338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1434960" y="584676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1307520" y="584676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307880" y="591012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882880" y="57830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4711680" y="57830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6540480" y="57830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4501800" y="5486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83520" y="601956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74160" y="601956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2120" y="601956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graph shows the solution to 2x - 10 ≥ 4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2295360"/>
            <a:ext cx="3809880" cy="2657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1981080"/>
            <a:ext cx="4572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rShape1"/>
          <p:cNvSpPr/>
          <p:nvPr/>
        </p:nvSpPr>
        <p:spPr>
          <a:xfrm rot="10800000">
            <a:off x="161640" y="363672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19810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25000"/>
              </a:lnSpc>
              <a:spcBef>
                <a:spcPts val="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0" lang="en-US" sz="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AnswerNow"/>
          <p:cNvGrpSpPr/>
          <p:nvPr/>
        </p:nvGrpSpPr>
        <p:grpSpPr>
          <a:xfrm>
            <a:off x="76320" y="5334120"/>
            <a:ext cx="4444920" cy="698400"/>
            <a:chOff x="76320" y="5334120"/>
            <a:chExt cx="4444920" cy="698400"/>
          </a:xfrm>
        </p:grpSpPr>
        <p:sp>
          <p:nvSpPr>
            <p:cNvPr id="99" name="ANShape"/>
            <p:cNvSpPr/>
            <p:nvPr/>
          </p:nvSpPr>
          <p:spPr>
            <a:xfrm>
              <a:off x="2139840" y="533412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NText"/>
            <p:cNvSpPr/>
            <p:nvPr/>
          </p:nvSpPr>
          <p:spPr>
            <a:xfrm>
              <a:off x="76320" y="552456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da4b5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 Solve 5m &lt; 2m +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0666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2m     -2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m  &lt; 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m &lt;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      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 &lt;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(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2(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+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295280"/>
            <a:ext cx="4267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2m from both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oth sides by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457200"/>
            <a:ext cx="0" cy="4419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75248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36576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rShape1"/>
          <p:cNvSpPr/>
          <p:nvPr/>
        </p:nvSpPr>
        <p:spPr>
          <a:xfrm rot="10800000">
            <a:off x="8229600" y="50292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52360" y="5715000"/>
            <a:ext cx="6962760" cy="1020960"/>
            <a:chOff x="1152360" y="5715000"/>
            <a:chExt cx="6962760" cy="1020960"/>
          </a:xfrm>
        </p:grpSpPr>
        <p:grpSp>
          <p:nvGrpSpPr>
            <p:cNvPr id="110" name=""/>
            <p:cNvGrpSpPr/>
            <p:nvPr/>
          </p:nvGrpSpPr>
          <p:grpSpPr>
            <a:xfrm>
              <a:off x="1152360" y="6011640"/>
              <a:ext cx="6962760" cy="216000"/>
              <a:chOff x="1152360" y="6011640"/>
              <a:chExt cx="6962760" cy="21600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1152360" y="6140160"/>
                <a:ext cx="3470400" cy="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396800" y="613872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13600" y="606240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026200" y="607536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8026200" y="613872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8025840" y="607536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95280" y="60624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434960" y="607536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307520" y="607536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307880" y="613872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882880" y="60116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711680" y="60116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540480" y="60116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01800" y="571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83880" y="62481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74520" y="62481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2480" y="62481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267080" y="304812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4752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Solve 2r - 18 ≤ 5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10666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2r             -2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18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3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    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6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6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≤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 r  or r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≥ 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– 18 = 5(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+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600200"/>
            <a:ext cx="4267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2r from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both sides by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6720" y="457200"/>
            <a:ext cx="0" cy="4419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175248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rShape1"/>
          <p:cNvSpPr/>
          <p:nvPr/>
        </p:nvSpPr>
        <p:spPr>
          <a:xfrm rot="10800000">
            <a:off x="8458200" y="50292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04812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5743440"/>
            <a:ext cx="6919920" cy="992880"/>
            <a:chOff x="1295280" y="5743440"/>
            <a:chExt cx="6919920" cy="992880"/>
          </a:xfrm>
        </p:grpSpPr>
        <p:sp>
          <p:nvSpPr>
            <p:cNvPr id="139" name=""/>
            <p:cNvSpPr/>
            <p:nvPr/>
          </p:nvSpPr>
          <p:spPr>
            <a:xfrm>
              <a:off x="1397160" y="6138720"/>
              <a:ext cx="662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13600" y="6062760"/>
              <a:ext cx="8892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26560" y="6075360"/>
              <a:ext cx="144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8026560" y="6138360"/>
              <a:ext cx="8892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8026200" y="6075360"/>
              <a:ext cx="889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606276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434960" y="6075000"/>
              <a:ext cx="180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308240" y="6075360"/>
              <a:ext cx="1267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8240" y="6138720"/>
              <a:ext cx="12672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882880" y="60116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711680" y="60116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540480" y="60116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6040" y="57434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Lucida Grande"/>
                </a:rPr>
                <a:t>●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83520" y="624852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74160" y="624852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2120" y="624852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51280" y="6129360"/>
              <a:ext cx="34639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) Solve  -2x + 10 ≥  3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≥ 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x ≤ 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x ≥  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x ≤  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AnswerNow"/>
          <p:cNvGrpSpPr/>
          <p:nvPr/>
        </p:nvGrpSpPr>
        <p:grpSpPr>
          <a:xfrm>
            <a:off x="76320" y="5334120"/>
            <a:ext cx="4444920" cy="698400"/>
            <a:chOff x="76320" y="5334120"/>
            <a:chExt cx="4444920" cy="698400"/>
          </a:xfrm>
        </p:grpSpPr>
        <p:sp>
          <p:nvSpPr>
            <p:cNvPr id="159" name="ANShape"/>
            <p:cNvSpPr/>
            <p:nvPr/>
          </p:nvSpPr>
          <p:spPr>
            <a:xfrm>
              <a:off x="2139840" y="533412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NText"/>
            <p:cNvSpPr/>
            <p:nvPr/>
          </p:nvSpPr>
          <p:spPr>
            <a:xfrm>
              <a:off x="76320" y="552456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CorShape1"/>
          <p:cNvSpPr/>
          <p:nvPr/>
        </p:nvSpPr>
        <p:spPr>
          <a:xfrm rot="10800000">
            <a:off x="161640" y="396216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8cf4ea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Solve     12p - 20 &gt;  + 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114300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p  – 20   &gt;   64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20     +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p    &gt;  8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        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p &gt;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6(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– 20 = 14(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+ 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600200"/>
            <a:ext cx="4267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20 to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both sides by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th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533520"/>
            <a:ext cx="0" cy="441936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17524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809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00960" y="3809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CorShape1"/>
          <p:cNvSpPr/>
          <p:nvPr/>
        </p:nvSpPr>
        <p:spPr>
          <a:xfrm rot="10800000">
            <a:off x="8458200" y="50292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304812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95280" y="5715000"/>
            <a:ext cx="6919920" cy="1021320"/>
            <a:chOff x="1295280" y="5715000"/>
            <a:chExt cx="6919920" cy="1021320"/>
          </a:xfrm>
        </p:grpSpPr>
        <p:sp>
          <p:nvSpPr>
            <p:cNvPr id="172" name=""/>
            <p:cNvSpPr/>
            <p:nvPr/>
          </p:nvSpPr>
          <p:spPr>
            <a:xfrm>
              <a:off x="1397160" y="6138720"/>
              <a:ext cx="6629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13600" y="6062760"/>
              <a:ext cx="88920" cy="127080"/>
            </a:xfrm>
            <a:custGeom>
              <a:avLst/>
              <a:gdLst/>
              <a:ahLst/>
              <a:rect l="l" t="t" r="r" b="b"/>
              <a:pathLst>
                <a:path w="56" h="80">
                  <a:moveTo>
                    <a:pt x="0" y="0"/>
                  </a:moveTo>
                  <a:lnTo>
                    <a:pt x="0" y="80"/>
                  </a:lnTo>
                  <a:lnTo>
                    <a:pt x="56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26560" y="6075360"/>
              <a:ext cx="144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026560" y="6138360"/>
              <a:ext cx="8892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8026200" y="6075360"/>
              <a:ext cx="889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606276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80"/>
                  </a:moveTo>
                  <a:lnTo>
                    <a:pt x="80" y="0"/>
                  </a:lnTo>
                  <a:lnTo>
                    <a:pt x="0" y="40"/>
                  </a:lnTo>
                  <a:lnTo>
                    <a:pt x="8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434960" y="6075000"/>
              <a:ext cx="180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308240" y="6075360"/>
              <a:ext cx="1267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08240" y="6138720"/>
              <a:ext cx="12672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882880" y="60116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711680" y="60116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40480" y="60116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4240" y="571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3880" y="62485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4520" y="62485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2480" y="62485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80080" y="6129360"/>
              <a:ext cx="34351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he values of x i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(x + 4) - 5(x - 1) &lt;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AnswerNow"/>
          <p:cNvGrpSpPr/>
          <p:nvPr/>
        </p:nvGrpSpPr>
        <p:grpSpPr>
          <a:xfrm>
            <a:off x="76320" y="5334120"/>
            <a:ext cx="4444920" cy="698400"/>
            <a:chOff x="76320" y="5334120"/>
            <a:chExt cx="4444920" cy="698400"/>
          </a:xfrm>
        </p:grpSpPr>
        <p:sp>
          <p:nvSpPr>
            <p:cNvPr id="191" name="ANShape"/>
            <p:cNvSpPr/>
            <p:nvPr/>
          </p:nvSpPr>
          <p:spPr>
            <a:xfrm>
              <a:off x="2139840" y="533412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NText"/>
            <p:cNvSpPr/>
            <p:nvPr/>
          </p:nvSpPr>
          <p:spPr>
            <a:xfrm>
              <a:off x="76320" y="552456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CorShape1"/>
          <p:cNvSpPr/>
          <p:nvPr/>
        </p:nvSpPr>
        <p:spPr>
          <a:xfrm rot="10800000">
            <a:off x="161640" y="388584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 &lt; 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 &gt; 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 &lt;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 &gt;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20:42:35Z</dcterms:created>
  <dc:creator>Skip Tyler</dc:creator>
  <dc:description/>
  <cp:keywords/>
  <dc:language>en-US</dc:language>
  <cp:lastModifiedBy>Parkland High School</cp:lastModifiedBy>
  <cp:lastPrinted>2010-10-25T12:39:51Z</cp:lastPrinted>
  <dcterms:modified xsi:type="dcterms:W3CDTF">2010-10-25T12:40:09Z</dcterms:modified>
  <cp:revision>35</cp:revision>
  <dc:subject/>
  <dc:title>Solving Two-Step Inequalities</dc:title>
</cp:coreProperties>
</file>